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7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5249-C7E0-4959-A61F-62043159DBA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2623-10D0-4D30-AA23-6ECFFFC75A6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nodo strateg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FEA9-83DB-47AD-93B7-79F1890B9E6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76D9-36A7-49F4-8332-4679DC08321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Lo studente deve immaginarsi la situazione, partendo dall’ipotesi di estrazione successive, parto da un calzino, poi due..così v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5BBD-4AA4-43D0-B767-A1B68EDA889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Esempio di item con successo elevato, intorno all’80% delle risposte corrette per ogni item, con punte 8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DAB0-56A1-4DA4-9D23-195971E43A3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pazio eventi non equiprobabi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3C8E-9B78-4AE3-A4F8-504769EB66E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C82C-0798-422C-BB8C-645A0ACD58F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Questo è stato l’esordio del mio prof di calcolo di prob all’uniPv- la smorfia interpreta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D793-7FB8-402C-8675-AE69A008160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i sospende nel 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AF85-9D3E-4B08-8876-6E9A98197B7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Più facile” a noi non soddisfa. Preferiremmo utilizzare già la terminologia corretta, “più probabil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B8BC-8BFC-4620-A332-5C6D3E3797B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Potrebbe essere u test pre_attività dei dad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C25C-68C9-4CC6-8F2D-3159E2A9BCC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La fallacia del giocat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3D14-EB63-4BF0-9E76-C2FB5E24C02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Tutto parte dal CIEAM bordeaux del 1974. commissione internazionale per lo studio e il  miglioramento della matematica.. Paradosso del compleanno, ricordiamoci di chiedere il giorno di nascita e m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4BE2-0D19-4BAE-AC34-BC0BCF448E5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n un grupp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34A3-D0EF-41F2-9E5A-0260FF6DB79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Brousseau, CIEAM 74:”Una certa demistificazione, una certa comprensione e pratica della statistica e della probabilità è diventata per il cittadino, una delle condizioni per una società democratica e di conseguenza uno degli obiettivi della formazione.” Io direi l’obiettivo della formazi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EEF1-ADB6-43C1-B9D0-A18B04A26AD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opo ICME, international congress on mathematical education, cosa possiamo f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9F42-BCA8-4B05-894A-414E606BE44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A4DA-00E3-4ED6-9B9B-0A9E0E9A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1D95-A474-40E5-81F9-3B6E29D0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AD60-A50D-49CE-A890-7688FF23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E8EE-96A0-4B09-BDDA-EB265DB3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2E42-894F-45F2-BACD-37BD653D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F684-C8DD-4449-BF03-90AA582E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C2D2-36BD-4E91-B751-46C1FA5C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6988-5164-4D70-BD8F-AC735621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06C0-DD9C-4862-A935-3C5B46EF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467A-2DA4-4E87-B3AA-33388F19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03C3-483A-4F0B-B62D-C551F34C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CB3B-DBCF-47E7-BA28-1C43E9CE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9A33-EC83-4C28-B48F-4EF17DC2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ACED-F676-4255-BCD3-38AD1B71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66CE-4DB1-4666-93B3-5314A19E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5BD2-D74B-472E-BC9A-2369242D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AC1B-6F8E-4132-92A7-5D433D58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07AFE-AF7D-421E-AC7F-66614522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751A5-265A-4092-9049-ADB03757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1AC81-B631-4615-8ACC-8084EA6A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BCE65-9C65-4E87-B380-517A2740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F63D3-A92A-4F38-AF0B-7C29BBC9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DC78-2961-4F4D-A7A9-DEA3D259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27382-742A-4868-8B6B-612D3161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DE202-7988-4A5A-A6B5-3CDEFA0E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5CCD6-2573-46CB-A100-A10B456B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FD8EE-8356-4C7F-B11D-32278BD5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B86B0-901D-4B74-8C69-995F2763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6C48A-DB93-4086-8E37-604469C9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50CE8-A035-4172-AD49-904BBAF8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1966D-6DD4-4ED1-ACB8-6C64E31E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D47A3-A70E-4333-A658-319D8BEB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6246A-06F2-4F46-9CE1-A9100F09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3B87-2163-4616-B179-45FD9740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04FA3-DB4D-4734-90D0-5023C706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8F611-6310-4A00-8DE0-A8ADCB65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7D76B-845C-4215-A29F-2B560C7F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F44E2-D468-4630-96E1-9A79E4E1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DDCA4-5555-4FDB-94E6-CA485528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16643-9965-454D-844F-F7AB3CC3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70375-452E-4E12-B654-F0C4F3B7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84060-0931-4EBB-98E8-AAC65298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7CC9A-2F83-4D1B-AE66-D5BBE66C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5239-6D16-41A2-8271-51E0AC06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8BA4-1727-42E9-9160-C6CAF274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02B8-0313-4FBB-840F-2D700601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E226-06DA-4F79-8026-2DC6F84B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1960-D1BB-4FC2-B323-38D1ED49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818E-5501-41DB-A2B8-7C44ECC1D9C8}" type="datetime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2CC7-EA3A-4B8F-99BC-9018E005EC15}" type="slidenum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igura a mano liber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igura a mano liber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34D4-4FA7-449C-B5D1-04C82AEF16D4}" type="datetime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7EDD-8E1A-48E3-AF2F-7C34E18D47FD}" type="slidenum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igura a mano liber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4947-6B95-49A9-998B-6082337AA716}" type="datetime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0884-CB5C-46A7-9B06-F331F2D2502D}" type="slidenum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itaglia e arrotonda singolo angolo rettangolo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Triangolo rettango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igura a mano libera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igura a mano libera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D4A8-DB45-4F06-A2BF-F5182403D4F1}" type="datetime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6A9C-C955-4CB4-962E-61C3FD060E02}" type="slidenum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olo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4848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nstantia"/>
              </a:rPr>
              <a:t>CORSO FORMAZIONE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nstantia"/>
              </a:rPr>
              <a:t>Limbiat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nstantia"/>
              </a:rPr>
              <a:t>5/05/2016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Segnaposto piè di pagina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Per scuola primaria  cl. 3^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’alunno ricerca dati per ricavare informazioni e costruisce rappresentazioni (tabelle e grafic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Riconosce e quantifica, in casi semplici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situazioni di incertezz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egnaposto piè di pagina 3"/>
          <p:cNvSpPr/>
          <p:nvPr/>
        </p:nvSpPr>
        <p:spPr>
          <a:xfrm>
            <a:off x="2484360" y="64533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Per la scuola primaria cl.5^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4000" y="1609200"/>
            <a:ext cx="701172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Oltre ai punti già previsti per la classe terza: utilizzare le rappresentazioni per ricavare informazioni, formulare giudizi e prendere decision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Usare le nozioni di frequenza, di moda e di media aritmetica, se adeguata ai dati disponibi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Segnaposto piè di pagina 3"/>
          <p:cNvSpPr/>
          <p:nvPr/>
        </p:nvSpPr>
        <p:spPr>
          <a:xfrm>
            <a:off x="2556000" y="630864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Al termine della secondaria di primo grad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55280" y="1609200"/>
            <a:ext cx="694044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Nelle situazioni di incertezza (vita quotidiana, giochi,…) si orienta con valutazioni di probabilità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Ha rafforzato un atteggiamento positivo rispetto alla matematica attraverso esperienze significative e ha capito come gli strumenti matematici appresi siano utili in molte situazioni per operare nella realtà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Segnaposto piè di pagina 3"/>
          <p:cNvSpPr/>
          <p:nvPr/>
        </p:nvSpPr>
        <p:spPr>
          <a:xfrm>
            <a:off x="255600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Obiettivi al termine del primo cicl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134120" cy="3744720"/>
          </a:xfrm>
          <a:prstGeom prst="rect">
            <a:avLst/>
          </a:prstGeom>
          <a:ln w="0">
            <a:noFill/>
          </a:ln>
        </p:spPr>
      </p:pic>
      <p:sp>
        <p:nvSpPr>
          <p:cNvPr id="247" name="Segnaposto piè di pagina 4"/>
          <p:cNvSpPr/>
          <p:nvPr/>
        </p:nvSpPr>
        <p:spPr>
          <a:xfrm>
            <a:off x="248436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E Invalsi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11280" y="1609560"/>
            <a:ext cx="70848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Anche nelle prove Invalsi possiamo leggere la ricerca delle stesse competenze base sul calcolo delle probabilità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saper riconoscere uno spazio degli eventi, evento certo, evento impossibile, eventi equiprobabili, eventi non equiprobabi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Dalla banca dati Gestinv è facile vedere come spesso gli item con minor percentuale di successo siano proprio quelli sulla probabilità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Segnaposto piè di pagina 3"/>
          <p:cNvSpPr/>
          <p:nvPr/>
        </p:nvSpPr>
        <p:spPr>
          <a:xfrm>
            <a:off x="255600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Invalsi v elementare 2010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6337080" cy="2162160"/>
          </a:xfrm>
          <a:prstGeom prst="rect">
            <a:avLst/>
          </a:prstGeom>
          <a:ln w="0">
            <a:noFill/>
          </a:ln>
        </p:spPr>
      </p:pic>
      <p:sp>
        <p:nvSpPr>
          <p:cNvPr id="253" name="Segnaposto piè di pagina 3"/>
          <p:cNvSpPr/>
          <p:nvPr/>
        </p:nvSpPr>
        <p:spPr>
          <a:xfrm>
            <a:off x="262728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6337080" cy="23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Invalsi v elementare 201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556320" cy="3168360"/>
          </a:xfrm>
          <a:prstGeom prst="rect">
            <a:avLst/>
          </a:prstGeom>
          <a:ln w="0">
            <a:noFill/>
          </a:ln>
        </p:spPr>
      </p:pic>
      <p:sp>
        <p:nvSpPr>
          <p:cNvPr id="257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Invalsi 2013 V elementa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539640" y="1527120"/>
            <a:ext cx="6772320" cy="1943280"/>
          </a:xfrm>
          <a:prstGeom prst="rect">
            <a:avLst/>
          </a:prstGeom>
          <a:ln w="0">
            <a:noFill/>
          </a:ln>
        </p:spPr>
      </p:pic>
      <p:sp>
        <p:nvSpPr>
          <p:cNvPr id="260" name="Segnaposto piè di pagina 3"/>
          <p:cNvSpPr/>
          <p:nvPr/>
        </p:nvSpPr>
        <p:spPr>
          <a:xfrm>
            <a:off x="2411280" y="6381720"/>
            <a:ext cx="3657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539640" y="3470400"/>
            <a:ext cx="6769080" cy="28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Invalsi V elementare 2013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6986520" cy="2232000"/>
          </a:xfrm>
          <a:prstGeom prst="rect">
            <a:avLst/>
          </a:prstGeom>
          <a:ln w="0">
            <a:noFill/>
          </a:ln>
        </p:spPr>
      </p:pic>
      <p:sp>
        <p:nvSpPr>
          <p:cNvPr id="264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2"/>
          <a:stretch/>
        </p:blipFill>
        <p:spPr>
          <a:xfrm>
            <a:off x="468360" y="3789360"/>
            <a:ext cx="6983280" cy="27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8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Invalsi V elementare 2015  d25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476360" y="1173240"/>
            <a:ext cx="5672160" cy="2423880"/>
          </a:xfrm>
          <a:prstGeom prst="rect">
            <a:avLst/>
          </a:prstGeom>
          <a:ln w="0">
            <a:noFill/>
          </a:ln>
        </p:spPr>
      </p:pic>
      <p:sp>
        <p:nvSpPr>
          <p:cNvPr id="268" name="Segnaposto piè di pa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2"/>
          <a:stretch/>
        </p:blipFill>
        <p:spPr>
          <a:xfrm>
            <a:off x="1477800" y="3789360"/>
            <a:ext cx="5689800" cy="23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4617b"/>
                </a:solidFill>
                <a:latin typeface="Arial"/>
                <a:ea typeface="Arial"/>
              </a:rPr>
              <a:t>Giocate al lotto 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04640" y="1196640"/>
            <a:ext cx="73440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Sulla ruota di Venezia manca il numero 87 da 113 settimane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Sulla ruota di Milano manca il numero 41 da 106 settimane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Conviene che domani vada a giocare il numero 87 e il numero 41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Conviene di più puntare sul numero 87 o sul 41?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Oppure conviene di più puntare sul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23 (torta) e 17 (nonna) perché questa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notte, in sogno, mia nonna mi ha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offerto una torta?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C’è davvero “convenienza”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Segnaposto piè di pagina 3"/>
          <p:cNvSpPr/>
          <p:nvPr/>
        </p:nvSpPr>
        <p:spPr>
          <a:xfrm>
            <a:off x="241128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Immagine 5" descr=""/>
          <p:cNvPicPr/>
          <p:nvPr/>
        </p:nvPicPr>
        <p:blipFill>
          <a:blip r:embed="rId1"/>
          <a:stretch/>
        </p:blipFill>
        <p:spPr>
          <a:xfrm>
            <a:off x="5940360" y="3789360"/>
            <a:ext cx="2179800" cy="29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Risposte alla d2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433440" y="1981080"/>
            <a:ext cx="7238880" cy="3708360"/>
          </a:xfrm>
          <a:prstGeom prst="rect">
            <a:avLst/>
          </a:prstGeom>
          <a:ln w="0">
            <a:noFill/>
          </a:ln>
        </p:spPr>
      </p:pic>
      <p:sp>
        <p:nvSpPr>
          <p:cNvPr id="272" name="Segnaposto piè di pagina 3"/>
          <p:cNvSpPr/>
          <p:nvPr/>
        </p:nvSpPr>
        <p:spPr>
          <a:xfrm>
            <a:off x="262728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2"/>
          <a:stretch/>
        </p:blipFill>
        <p:spPr>
          <a:xfrm>
            <a:off x="466560" y="3933720"/>
            <a:ext cx="425160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Invalsi 2011     1^media</a:t>
            </a:r>
            <a:r>
              <a:rPr b="0" lang="it-IT" sz="28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it-IT" sz="1800" spc="-1" strike="noStrike">
                <a:solidFill>
                  <a:srgbClr val="04617b"/>
                </a:solidFill>
                <a:latin typeface="Calibri"/>
              </a:rPr>
              <a:t>unico esempio di item probabilita’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6767280" cy="2592360"/>
          </a:xfrm>
          <a:prstGeom prst="rect">
            <a:avLst/>
          </a:prstGeom>
          <a:ln w="0">
            <a:noFill/>
          </a:ln>
        </p:spPr>
      </p:pic>
      <p:sp>
        <p:nvSpPr>
          <p:cNvPr id="276" name="Segnaposto piè di pagina 3"/>
          <p:cNvSpPr/>
          <p:nvPr/>
        </p:nvSpPr>
        <p:spPr>
          <a:xfrm>
            <a:off x="284328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2"/>
          <a:stretch/>
        </p:blipFill>
        <p:spPr>
          <a:xfrm>
            <a:off x="684360" y="3933720"/>
            <a:ext cx="676728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723888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Invalsi 2015    3^ media   d12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6551640" cy="2879640"/>
          </a:xfrm>
          <a:prstGeom prst="rect">
            <a:avLst/>
          </a:prstGeom>
          <a:ln w="0">
            <a:noFill/>
          </a:ln>
        </p:spPr>
      </p:pic>
      <p:sp>
        <p:nvSpPr>
          <p:cNvPr id="280" name="Segnaposto piè di pagina 4"/>
          <p:cNvSpPr/>
          <p:nvPr/>
        </p:nvSpPr>
        <p:spPr>
          <a:xfrm>
            <a:off x="2340000" y="64533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684360" y="4076640"/>
            <a:ext cx="65516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Invalsi  PN 2011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6193080" cy="2663640"/>
          </a:xfrm>
          <a:prstGeom prst="rect">
            <a:avLst/>
          </a:prstGeom>
          <a:ln w="0">
            <a:noFill/>
          </a:ln>
        </p:spPr>
      </p:pic>
      <p:sp>
        <p:nvSpPr>
          <p:cNvPr id="284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1042920" y="3716280"/>
            <a:ext cx="6191280" cy="275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2^elementare 2013: unico esempi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6336000" cy="2460600"/>
          </a:xfrm>
          <a:prstGeom prst="rect">
            <a:avLst/>
          </a:prstGeom>
          <a:ln w="0">
            <a:noFill/>
          </a:ln>
        </p:spPr>
      </p:pic>
      <p:sp>
        <p:nvSpPr>
          <p:cNvPr id="288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CasellaDiTesto 5"/>
          <p:cNvSpPr/>
          <p:nvPr/>
        </p:nvSpPr>
        <p:spPr>
          <a:xfrm>
            <a:off x="1042920" y="4221000"/>
            <a:ext cx="6265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: Mario dice che è più facile prendere una pallina bian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B: Giorgia dice che è più facile prendere una pallina ner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: Luca dice che è facile allo stesso mod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sposta corretta: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ducare al pensiero probabilistico, leggere “facile” come “più probabile</a:t>
            </a:r>
            <a:r>
              <a:rPr b="0" lang="it-IT" sz="1800" spc="-1" strike="noStrike">
                <a:solidFill>
                  <a:srgbClr val="000000"/>
                </a:solidFill>
                <a:latin typeface="Constantia"/>
              </a:rPr>
              <a:t>”    discussione in merito al termine “facile”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8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Cosa dice la ricerca didattica…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5280" y="1557000"/>
            <a:ext cx="66628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Nel lancio di due dadi, se si tiene conto della somma dei punti scommetteresti sul 7 o sul 10? Perché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Segnaposto piè di pagina 3"/>
          <p:cNvSpPr/>
          <p:nvPr/>
        </p:nvSpPr>
        <p:spPr>
          <a:xfrm>
            <a:off x="2484360" y="64533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763640" y="2492280"/>
          <a:ext cx="4367160" cy="3470400"/>
        </p:xfrm>
        <a:graphic>
          <a:graphicData uri="http://schemas.openxmlformats.org/drawingml/2006/table">
            <a:tbl>
              <a:tblPr/>
              <a:tblGrid>
                <a:gridCol w="1395360"/>
                <a:gridCol w="981360"/>
                <a:gridCol w="1000080"/>
                <a:gridCol w="990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element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edia (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essuna rispo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,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,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,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isposta corret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,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4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6,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isposta 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8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6,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1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8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(10)=p(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2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,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(10)&gt;p(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6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7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3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Passi progressiv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11280" y="1609560"/>
            <a:ext cx="70848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Occorre arrivare alla definizione di probabilità classica, partendo da attività che sviluppino la probabilità in senso frequentis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a definizione non deve essere un punto di partenz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Attività mirate a cogliere il concetto di evento, evento certo e impossibile, per arrivare allo spazio degli even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a storia della nascita del calcolo è affascinante…perché non farl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Segnaposto piè di pagina 3"/>
          <p:cNvSpPr/>
          <p:nvPr/>
        </p:nvSpPr>
        <p:spPr>
          <a:xfrm>
            <a:off x="262728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Attività per inizia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Estrazione palline numerate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Estrazione palline colorate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Pennarelli colora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ancio del dado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ancio del dado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a passeggiata dell’ubriaco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a passeggiato dell’ubriaco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Modalità operativ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E’ necessario che la classe venga suddivisa in piccoli gruppi. Max 3 persone per gruppo. Sarebbe opportuno che, per meglio sfruttare le potenzialità del cooperative learning, ogni elemento del gruppo abbia un compito precis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Utilizzare il linguaggio specifico del calcolo probabilistico, per esempio parlando da subito di “evento”, di “più probabile” anziché “più facile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E in più, il valore aggiunto  dell’attività con schede Merl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In più possiamo allegare due schede Merl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Per possedere un concetto occorre saper passare da una rappresentazione epistemologica ad un’alt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Inoltre, si centra l’obiettivo dell’inclusione e si toccano tutte le Competenze Chiave di Cittadinanz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Lancio della Monet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1966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onstantia"/>
              </a:rPr>
              <a:t>Lanciando 10 volte una moneta non truccata, quale sequenza è più probabile tra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it-IT" sz="2300" spc="-1" strike="noStrike">
                <a:solidFill>
                  <a:srgbClr val="000000"/>
                </a:solidFill>
                <a:latin typeface="Constantia"/>
              </a:rPr>
              <a:t>T C T T C T C C C 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it-IT" sz="2300" spc="-1" strike="noStrike">
                <a:solidFill>
                  <a:srgbClr val="000000"/>
                </a:solidFill>
                <a:latin typeface="Constantia"/>
              </a:rPr>
              <a:t>T T T T T T T T T 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it-IT" sz="2300" spc="-1" strike="noStrike">
                <a:solidFill>
                  <a:srgbClr val="000000"/>
                </a:solidFill>
                <a:latin typeface="Constantia"/>
              </a:rPr>
              <a:t>T C T C T C T C T C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onstantia"/>
              </a:rPr>
              <a:t>La sequenza T T T T T T T T T T è l’esito di 10 lanci 10 di una moneta non truccata. Per l’undicesimo lancio conviene puntare su Testa o Croce?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Segnaposto piè di pagina 3"/>
          <p:cNvSpPr/>
          <p:nvPr/>
        </p:nvSpPr>
        <p:spPr>
          <a:xfrm>
            <a:off x="248436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Immagine 4" descr=""/>
          <p:cNvPicPr/>
          <p:nvPr/>
        </p:nvPicPr>
        <p:blipFill>
          <a:blip r:embed="rId1"/>
          <a:stretch/>
        </p:blipFill>
        <p:spPr>
          <a:xfrm>
            <a:off x="4700520" y="1755720"/>
            <a:ext cx="2870280" cy="31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308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egnaposto piè di pa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Arial"/>
                <a:ea typeface="Arial"/>
              </a:rPr>
              <a:t>Perché fare probabilità?</a:t>
            </a:r>
            <a:br>
              <a:rPr sz="4500"/>
            </a:br>
            <a:r>
              <a:rPr b="0" lang="it-IT" sz="4500" spc="-1" strike="noStrike">
                <a:solidFill>
                  <a:srgbClr val="04617b"/>
                </a:solidFill>
                <a:latin typeface="Arial"/>
                <a:ea typeface="Arial"/>
              </a:rPr>
              <a:t>Dal congresso I.C.M.E.11, 2008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usa la propria esperienza per valutare la probabilità in modo molto casua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tratta l’informazione in modo parecchio incomple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tratta l’informazione lasciandosi influenzare dagli eventi salient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incontra grosse difficoltà nel valutare probabilità molto piccole o molto grand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Segnaposto piè di pagina 3"/>
          <p:cNvSpPr/>
          <p:nvPr/>
        </p:nvSpPr>
        <p:spPr>
          <a:xfrm>
            <a:off x="241128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Intermezzo: Scommettiamo che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26680" y="1096920"/>
            <a:ext cx="70693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Conviene scommettere che almeno due di noi festeggiano il compleanno lo stesso giorno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Segnaposto piè di pagina 3"/>
          <p:cNvSpPr/>
          <p:nvPr/>
        </p:nvSpPr>
        <p:spPr>
          <a:xfrm>
            <a:off x="255600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6" descr="http://gruppo.canovasport.it/piscinemonselice/wp-content/uploads/sites/3/2014/11/compleanno.png"/>
          <p:cNvPicPr/>
          <p:nvPr/>
        </p:nvPicPr>
        <p:blipFill>
          <a:blip r:embed="rId1"/>
          <a:stretch/>
        </p:blipFill>
        <p:spPr>
          <a:xfrm>
            <a:off x="2940120" y="2708280"/>
            <a:ext cx="2173320" cy="3327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https://upload.wikimedia.org/wikipedia/commons/thumb/6/67/Birthday_Paradox_IT.svg/350px-Birthday_Paradox_IT.svg.png"/>
          <p:cNvPicPr/>
          <p:nvPr/>
        </p:nvPicPr>
        <p:blipFill>
          <a:blip r:embed="rId2"/>
          <a:stretch/>
        </p:blipFill>
        <p:spPr>
          <a:xfrm>
            <a:off x="527040" y="2579760"/>
            <a:ext cx="3333600" cy="2143080"/>
          </a:xfrm>
          <a:prstGeom prst="rect">
            <a:avLst/>
          </a:prstGeom>
          <a:ln w="0">
            <a:noFill/>
          </a:ln>
        </p:spPr>
      </p:pic>
      <p:pic>
        <p:nvPicPr>
          <p:cNvPr id="221" name="CasellaDiTesto 5" descr=""/>
          <p:cNvPicPr/>
          <p:nvPr/>
        </p:nvPicPr>
        <p:blipFill>
          <a:blip r:embed="rId3"/>
          <a:stretch/>
        </p:blipFill>
        <p:spPr>
          <a:xfrm>
            <a:off x="4108320" y="2968560"/>
            <a:ext cx="3889440" cy="822240"/>
          </a:xfrm>
          <a:prstGeom prst="rect">
            <a:avLst/>
          </a:prstGeom>
          <a:ln w="0">
            <a:noFill/>
          </a:ln>
        </p:spPr>
      </p:pic>
      <p:sp>
        <p:nvSpPr>
          <p:cNvPr id="222" name="CasellaDiTesto 6"/>
          <p:cNvSpPr/>
          <p:nvPr/>
        </p:nvSpPr>
        <p:spPr>
          <a:xfrm>
            <a:off x="131040" y="5684760"/>
            <a:ext cx="66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nstantia"/>
              </a:rPr>
              <a:t>In particolare, in un gruppo formato da più di 365 person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nstantia"/>
              </a:rPr>
              <a:t>l’evento è </a:t>
            </a:r>
            <a:r>
              <a:rPr b="1" lang="it-IT" sz="1800" spc="-1" strike="noStrike">
                <a:solidFill>
                  <a:srgbClr val="ff0000"/>
                </a:solidFill>
                <a:latin typeface="Constantia"/>
              </a:rPr>
              <a:t>certo</a:t>
            </a:r>
            <a:r>
              <a:rPr b="0" lang="it-IT" sz="18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CasellaDiTesto 12" descr=""/>
          <p:cNvPicPr/>
          <p:nvPr/>
        </p:nvPicPr>
        <p:blipFill>
          <a:blip r:embed="rId4"/>
          <a:stretch/>
        </p:blipFill>
        <p:spPr>
          <a:xfrm>
            <a:off x="493560" y="4834080"/>
            <a:ext cx="724248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80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Arial"/>
                <a:ea typeface="Arial"/>
              </a:rPr>
              <a:t>E ancora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196640"/>
            <a:ext cx="72388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non assegna probabilità 0 all’evento impossibile né la probabilità 1 a quello cer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associa certezza e impossibilità a eventi fisici piuttosto che a quelli logic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assegna le probabilità 50% e 50% ai due eventi legati al lancio di una qualsiasi mone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assegna equiprobabilità a situazioni sconosciu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si dimostra incoerente quando assegna e valuta probabilit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si comporta in modo sovraddi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egnaposto piè di pagina 3"/>
          <p:cNvSpPr/>
          <p:nvPr/>
        </p:nvSpPr>
        <p:spPr>
          <a:xfrm>
            <a:off x="2627280" y="64533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Sfida: Noi non vogliamo essere la “gente comune”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Per questo è richiesto un  anticipo alla primaria del calcolo probabilist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Educare al pensiero probabilist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Come possiamo far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Partiamo dai </a:t>
            </a:r>
            <a:r>
              <a:rPr b="0" i="1" lang="it-IT" sz="2600" spc="-1" strike="noStrike">
                <a:solidFill>
                  <a:srgbClr val="ff0000"/>
                </a:solidFill>
                <a:latin typeface="Constantia"/>
              </a:rPr>
              <a:t>probabili 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misconcetti e sulla possibilità di correggerli con opportune azioni didattich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Segnaposto piè di pagina 3"/>
          <p:cNvSpPr/>
          <p:nvPr/>
        </p:nvSpPr>
        <p:spPr>
          <a:xfrm>
            <a:off x="234000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1595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Dalle indicazioni nazionali</a:t>
            </a:r>
            <a:br>
              <a:rPr sz="4500"/>
            </a:b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per un percorso dall’infanzia in vertical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Segnaposto piè di pagina 8"/>
          <p:cNvSpPr/>
          <p:nvPr/>
        </p:nvSpPr>
        <p:spPr>
          <a:xfrm>
            <a:off x="2124000" y="623736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Immagine 3" descr=""/>
          <p:cNvPicPr/>
          <p:nvPr/>
        </p:nvPicPr>
        <p:blipFill>
          <a:blip r:embed="rId1"/>
          <a:stretch/>
        </p:blipFill>
        <p:spPr>
          <a:xfrm>
            <a:off x="592200" y="2133720"/>
            <a:ext cx="6969240" cy="42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Traguardi per lo sviluppo delle competenz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24000" y="2420640"/>
            <a:ext cx="723888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il bambino sa collocare le azioni quotidiane nel tempo della giornata e della settiman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Riferisce correttamente eventi del passato recente e sa dire cosa potrà succedere in futu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Segnaposto piè di pagina 4"/>
          <p:cNvSpPr/>
          <p:nvPr/>
        </p:nvSpPr>
        <p:spPr>
          <a:xfrm>
            <a:off x="241128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7T08:59:12Z</dcterms:created>
  <dc:creator>Matteo Para</dc:creator>
  <dc:description/>
  <dc:language>en-US</dc:language>
  <cp:lastModifiedBy>Matteo Para</cp:lastModifiedBy>
  <dcterms:modified xsi:type="dcterms:W3CDTF">2016-05-05T14:52:58Z</dcterms:modified>
  <cp:revision>116</cp:revision>
  <dc:subject/>
  <dc:title>Preparare all’Invalsi attraverso Merlo</dc:title>
</cp:coreProperties>
</file>