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7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3A7C-45BB-4F41-A172-FD40901AD0E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FA038-C65B-479E-8F3D-BA8B6963AF1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Snodo strategi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4F90-A539-47B4-8193-63D5D72EDA8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571A-B5D7-465D-8DBD-319B545EECF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Lo studente deve immaginarsi la situazione, partendo dall’ipotesi di estrazione successive, parto da un calzino, poi due..così v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B52A-CB19-4618-B459-A4085F58B05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Esempio di item con successo elevato, intorno all’80% delle risposte corrette per ogni item, con punte 8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9596-DA33-4C94-B343-A33110DC662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Spazio eventi non equiprobabil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89E1-219C-46BE-99BF-BDA08727799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6A0A-B94A-4E4F-95A1-3A0606F9F81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Questo è stato l’esordio del mio prof di calcolo di prob all’uniPv- la smorfia interpreta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55FB-CBC3-4FA1-AE13-7FF0014E81A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Si sospende nel 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8113-882D-4688-9D9E-5E17F9410D8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Più facile” a noi non soddisfa. Preferiremmo utilizzare già la terminologia corretta, “più probabil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E6CC-920E-46C3-AB3A-33ED6C69288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Potrebbe essere u test pre_attività dei dad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50F8-6455-451D-A67E-CCC40D76E51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La fallacia del giocat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4C36-974D-4D27-A854-E3F9ED2FCFF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Tutto parte dal CIEAM bordeaux del 1974. commissione internazionale per lo studio e il  miglioramento della matematica.. Paradosso del compleanno, ricordiamoci di chiedere il giorno di nascita e me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2A59-3011-45C4-91A9-87A5268AE48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n un grupp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65A3-0109-46E9-B52D-6B36D9A379E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Brousseau, CIEAM 74:”Una certa demistificazione, una certa comprensione e pratica della statistica e della probabilità è diventata per il cittadino, una delle condizioni per una società democratica e di conseguenza uno degli obiettivi della formazione.” Io direi l’obiettivo della formazi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DAE6-CBF0-4E4A-BF5F-42A48C3AB69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Dopo ICME, international congress on mathematical education, cosa possiamo fa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3F86-BBDD-4A3D-A407-C4DD8CA2602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BE74-6C94-4BAD-BE8F-D71A40C1B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4C9C-41C7-4F89-928C-5981BA6B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98E4-DF47-478E-A605-5E9035D22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8014-4E6C-47DC-A06C-636887150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D2A3-27D1-40F2-AD30-87B93D6D4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E51E-EC13-4A07-A896-4BE4843D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A0BE-7E04-4285-B826-669E3EF0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18E0-38D2-457C-9AE6-FA38937B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232A-196E-4F55-B0AE-3DCF25C6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148E-38C7-4EDF-AC07-E1F0E917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7CFC5-2B94-466C-BF10-E78A7FC0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54B8-329D-44B5-B2DB-5EF16B89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2576-96A3-45E3-B765-5844F527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EDC86-893B-4F68-ADB0-BEDD217A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F11E-C8C5-46DE-9328-C2981643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408B-FB5C-4591-9AE2-7DED536E7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793C-94A7-4259-87C1-DBAEC4C36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5B3D8-C343-460A-96D8-2CFE504AD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F583A-F479-47E0-AFAA-31F4E186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A249C-9D51-4284-9536-3D540565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E565F-3595-4D96-88D9-0D27A4C5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0914D-CEF2-4E19-AB0D-5AF4EE10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CD29-A30C-4C89-9A7D-116E5EE1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0EC8E-F372-4336-9024-5133EF9F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13800-1EAE-43B6-BAC4-914E4511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D1F09-E221-4E0B-8C02-41B383C7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A3C18-5A7C-4CBC-AD37-73B69695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7D041-0EA1-425D-81BE-A121544D9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8B257-8CBD-4C4C-BAF8-208FC0B72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BA1D8-A4E7-45D5-9B49-CFFC8D6E9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BFF4F-C616-4B19-876C-F5F7E5489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C5506-9919-40D4-AC85-0DE87834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3D681-EA41-43FB-B48C-9564F8CD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F606-5BC9-4ED9-B72A-81536A64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777EA-396B-4061-A111-58BD706C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D0F72-B1C4-4E98-9AB1-A8E9DF47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2FB4F-5A14-4A05-89E9-24443095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3EDF1-E626-45BB-B12A-4A2C22BD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FD735-5DBA-456D-866D-AEF4C378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6298D-6041-4189-9970-9EDAAE28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84CB2-68D7-43B0-A01B-42FF0CDB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338ED-7228-4776-BF4E-37D8F4445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7DE4A-8E4A-4D71-BCAC-120883278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87F1-C836-4F5F-B50D-1E7FCBA4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8EAD-B91B-4946-830D-B9EA49E3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D861-A995-4631-A44C-96BFCE51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5330-F19E-4C36-8A02-1AF01DBC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4838-B618-4DEA-9FD5-2F11C9CA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igura a mano libera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igura a mano libera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B64E-F0AB-4C7B-B3E2-EB658B9F0CA4}" type="datetime">
              <a:rPr b="0" lang="it-IT" sz="1200" spc="-1" strike="noStrike">
                <a:solidFill>
                  <a:srgbClr val="045c75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Times New Roman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33AE-502A-428A-8A4A-5DD94103483C}" type="slidenum">
              <a:rPr b="0" lang="it-IT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up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igura a mano liber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igura a mano libera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igura a mano libera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igura a mano libera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igura a mano libera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igura a mano libera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up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igura a mano liber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igura a mano libera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igura a mano libera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igura a mano libera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0F09-A925-4C49-B882-D2D6082A8A5C}" type="datetime">
              <a:rPr b="0" lang="it-IT" sz="1200" spc="-1" strike="noStrike">
                <a:solidFill>
                  <a:srgbClr val="d1eaee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1eaee"/>
                </a:solidFill>
                <a:latin typeface="Times New Roman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0D37-1514-4F5A-8071-7BF95B07705D}" type="slidenum">
              <a:rPr b="0" lang="it-IT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igura a mano libera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igura a mano libera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up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igura a mano liber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igura a mano libera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igura a mano libera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igura a mano libera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6F89-C05D-431D-B312-2F19A8F8215A}" type="datetime">
              <a:rPr b="0" lang="it-IT" sz="1200" spc="-1" strike="noStrike">
                <a:solidFill>
                  <a:srgbClr val="d1eaee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1eaee"/>
                </a:solidFill>
                <a:latin typeface="Times New Roman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0E12-CC71-44C2-819C-924A7FDB6339}" type="slidenum">
              <a:rPr b="0" lang="it-IT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itaglia e arrotonda singolo angolo rettangolo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Triangolo rettangolo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igura a mano libera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igura a mano libera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BC5F-E1D3-47AA-81D1-2B34BC808CA8}" type="datetime">
              <a:rPr b="0" lang="it-IT" sz="1200" spc="-1" strike="noStrike">
                <a:solidFill>
                  <a:srgbClr val="045c75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Times New Roman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8070-523A-44D1-81BF-E7C8D9C41043}" type="slidenum">
              <a:rPr b="0" lang="it-IT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olo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48480" cy="2011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nstantia"/>
              </a:rPr>
              <a:t>CORSO FORMAZIONE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nstantia"/>
              </a:rPr>
              <a:t>Limbiat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nstantia"/>
              </a:rPr>
              <a:t>5/05/2016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Segnaposto piè di pagina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1eaee"/>
                </a:solidFill>
                <a:latin typeface="Constantia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Per scuola primaria  cl. 3^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“…</a:t>
            </a: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l’alunno ricerca dati per ricavare informazioni e costruisce rappresentazioni (tabelle e grafic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Riconosce e quantifica, in casi semplici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situazioni di incertezz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Segnaposto piè di pagina 3"/>
          <p:cNvSpPr/>
          <p:nvPr/>
        </p:nvSpPr>
        <p:spPr>
          <a:xfrm>
            <a:off x="2484360" y="645336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Per la scuola primaria cl.5^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84000" y="1609200"/>
            <a:ext cx="701172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Oltre ai punti già previsti per la classe terza: utilizzare le rappresentazioni per ricavare informazioni, formulare giudizi e prendere decision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Usare le nozioni di frequenza, di moda e di media aritmetica, se adeguata ai dati disponibi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Segnaposto piè di pagina 3"/>
          <p:cNvSpPr/>
          <p:nvPr/>
        </p:nvSpPr>
        <p:spPr>
          <a:xfrm>
            <a:off x="2556000" y="630864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Al termine della secondaria di primo grad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755280" y="1609200"/>
            <a:ext cx="694044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Nelle situazioni di incertezza (vita quotidiana, giochi,…) si orienta con valutazioni di probabilità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Ha rafforzato un atteggiamento positivo rispetto alla matematica attraverso esperienze significative e ha capito come gli strumenti matematici appresi siano utili in molte situazioni per operare nella realtà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Segnaposto piè di pagina 3"/>
          <p:cNvSpPr/>
          <p:nvPr/>
        </p:nvSpPr>
        <p:spPr>
          <a:xfrm>
            <a:off x="2556000" y="63817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Obiettivi al termine del primo cicl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7134120" cy="3744720"/>
          </a:xfrm>
          <a:prstGeom prst="rect">
            <a:avLst/>
          </a:prstGeom>
          <a:ln w="0">
            <a:noFill/>
          </a:ln>
        </p:spPr>
      </p:pic>
      <p:sp>
        <p:nvSpPr>
          <p:cNvPr id="247" name="Segnaposto piè di pagina 4"/>
          <p:cNvSpPr/>
          <p:nvPr/>
        </p:nvSpPr>
        <p:spPr>
          <a:xfrm>
            <a:off x="2484360" y="63817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E Invalsi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11280" y="1609560"/>
            <a:ext cx="70848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Anche nelle prove Invalsi possiamo leggere la ricerca delle stesse competenze base sul calcolo delle probabilità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saper riconoscere uno spazio degli eventi, evento certo, evento impossibile, eventi equiprobabili, eventi non equiprobabi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Dalla banca dati Gestinv è facile vedere come spesso gli item con minor percentuale di successo siano proprio quelli sulla probabilità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Segnaposto piè di pagina 3"/>
          <p:cNvSpPr/>
          <p:nvPr/>
        </p:nvSpPr>
        <p:spPr>
          <a:xfrm>
            <a:off x="2556000" y="63817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Invalsi v elementare 2010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6337080" cy="2162160"/>
          </a:xfrm>
          <a:prstGeom prst="rect">
            <a:avLst/>
          </a:prstGeom>
          <a:ln w="0">
            <a:noFill/>
          </a:ln>
        </p:spPr>
      </p:pic>
      <p:sp>
        <p:nvSpPr>
          <p:cNvPr id="253" name="Segnaposto piè di pagina 3"/>
          <p:cNvSpPr/>
          <p:nvPr/>
        </p:nvSpPr>
        <p:spPr>
          <a:xfrm>
            <a:off x="2627280" y="63817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2"/>
          <a:stretch/>
        </p:blipFill>
        <p:spPr>
          <a:xfrm>
            <a:off x="971640" y="3789360"/>
            <a:ext cx="6337080" cy="23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Invalsi v elementare 2011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6556320" cy="3168360"/>
          </a:xfrm>
          <a:prstGeom prst="rect">
            <a:avLst/>
          </a:prstGeom>
          <a:ln w="0">
            <a:noFill/>
          </a:ln>
        </p:spPr>
      </p:pic>
      <p:sp>
        <p:nvSpPr>
          <p:cNvPr id="257" name="Segnaposto piè di pagina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onstantia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Invalsi 2013 V elementa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539640" y="1527120"/>
            <a:ext cx="6772320" cy="1943280"/>
          </a:xfrm>
          <a:prstGeom prst="rect">
            <a:avLst/>
          </a:prstGeom>
          <a:ln w="0">
            <a:noFill/>
          </a:ln>
        </p:spPr>
      </p:pic>
      <p:sp>
        <p:nvSpPr>
          <p:cNvPr id="260" name="Segnaposto piè di pagina 3"/>
          <p:cNvSpPr/>
          <p:nvPr/>
        </p:nvSpPr>
        <p:spPr>
          <a:xfrm>
            <a:off x="2411280" y="6381720"/>
            <a:ext cx="36576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onstantia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2"/>
          <a:stretch/>
        </p:blipFill>
        <p:spPr>
          <a:xfrm>
            <a:off x="539640" y="3470400"/>
            <a:ext cx="6769080" cy="28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Invalsi V elementare 2013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6986520" cy="2232000"/>
          </a:xfrm>
          <a:prstGeom prst="rect">
            <a:avLst/>
          </a:prstGeom>
          <a:ln w="0">
            <a:noFill/>
          </a:ln>
        </p:spPr>
      </p:pic>
      <p:sp>
        <p:nvSpPr>
          <p:cNvPr id="264" name="Segnaposto piè di pagina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onstantia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2"/>
          <a:stretch/>
        </p:blipFill>
        <p:spPr>
          <a:xfrm>
            <a:off x="468360" y="3789360"/>
            <a:ext cx="6983280" cy="27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8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Invalsi V elementare 2015  d25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1476360" y="1173240"/>
            <a:ext cx="5672160" cy="2423880"/>
          </a:xfrm>
          <a:prstGeom prst="rect">
            <a:avLst/>
          </a:prstGeom>
          <a:ln w="0">
            <a:noFill/>
          </a:ln>
        </p:spPr>
      </p:pic>
      <p:sp>
        <p:nvSpPr>
          <p:cNvPr id="268" name="Segnaposto piè di pagina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onstantia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9" name="Picture 3" descr=""/>
          <p:cNvPicPr/>
          <p:nvPr/>
        </p:nvPicPr>
        <p:blipFill>
          <a:blip r:embed="rId2"/>
          <a:stretch/>
        </p:blipFill>
        <p:spPr>
          <a:xfrm>
            <a:off x="1477800" y="3789360"/>
            <a:ext cx="5689800" cy="235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4617b"/>
                </a:solidFill>
                <a:latin typeface="Arial"/>
                <a:ea typeface="Arial"/>
              </a:rPr>
              <a:t>Giocate al lotto 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04640" y="1196640"/>
            <a:ext cx="73440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Arial"/>
              </a:rPr>
              <a:t>Sulla ruota di Venezia manca il numero 87 da 113 settimane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Arial"/>
              </a:rPr>
              <a:t>Sulla ruota di Milano manca il numero 41 da 106 settimane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Arial"/>
              </a:rPr>
              <a:t>Conviene che domani vada a giocare il numero 87 e il numero 41?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Arial"/>
              </a:rPr>
              <a:t>Conviene di più puntare sul numero 87 o sul 41?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Arial"/>
              </a:rPr>
              <a:t>Oppure conviene di più puntare sul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Arial"/>
              </a:rPr>
              <a:t>23 (torta) e 17 (nonna) perché questa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Arial"/>
              </a:rPr>
              <a:t>notte, in sogno, mia nonna mi ha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Arial"/>
              </a:rPr>
              <a:t>offerto una torta?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Arial"/>
              </a:rPr>
              <a:t>C’è davvero “convenienza”?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Segnaposto piè di pagina 3"/>
          <p:cNvSpPr/>
          <p:nvPr/>
        </p:nvSpPr>
        <p:spPr>
          <a:xfrm>
            <a:off x="2411280" y="63817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Immagine 5" descr=""/>
          <p:cNvPicPr/>
          <p:nvPr/>
        </p:nvPicPr>
        <p:blipFill>
          <a:blip r:embed="rId1"/>
          <a:stretch/>
        </p:blipFill>
        <p:spPr>
          <a:xfrm>
            <a:off x="5940360" y="3789360"/>
            <a:ext cx="2179800" cy="29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Risposte alla d25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433440" y="1981080"/>
            <a:ext cx="7238880" cy="3708360"/>
          </a:xfrm>
          <a:prstGeom prst="rect">
            <a:avLst/>
          </a:prstGeom>
          <a:ln w="0">
            <a:noFill/>
          </a:ln>
        </p:spPr>
      </p:pic>
      <p:sp>
        <p:nvSpPr>
          <p:cNvPr id="272" name="Segnaposto piè di pagina 3"/>
          <p:cNvSpPr/>
          <p:nvPr/>
        </p:nvSpPr>
        <p:spPr>
          <a:xfrm>
            <a:off x="2627280" y="63817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2"/>
          <a:stretch/>
        </p:blipFill>
        <p:spPr>
          <a:xfrm>
            <a:off x="466560" y="3933720"/>
            <a:ext cx="4251600" cy="175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947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Invalsi 2011     1^media</a:t>
            </a:r>
            <a:r>
              <a:rPr b="0" lang="it-IT" sz="2800" spc="-1" strike="noStrike">
                <a:solidFill>
                  <a:srgbClr val="04617b"/>
                </a:solidFill>
                <a:latin typeface="Calibri"/>
              </a:rPr>
              <a:t>, </a:t>
            </a:r>
            <a:r>
              <a:rPr b="0" lang="it-IT" sz="1800" spc="-1" strike="noStrike">
                <a:solidFill>
                  <a:srgbClr val="04617b"/>
                </a:solidFill>
                <a:latin typeface="Calibri"/>
              </a:rPr>
              <a:t>unico esempio di item probabilita’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6767280" cy="2592360"/>
          </a:xfrm>
          <a:prstGeom prst="rect">
            <a:avLst/>
          </a:prstGeom>
          <a:ln w="0">
            <a:noFill/>
          </a:ln>
        </p:spPr>
      </p:pic>
      <p:sp>
        <p:nvSpPr>
          <p:cNvPr id="276" name="Segnaposto piè di pagina 3"/>
          <p:cNvSpPr/>
          <p:nvPr/>
        </p:nvSpPr>
        <p:spPr>
          <a:xfrm>
            <a:off x="2843280" y="63817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2"/>
          <a:stretch/>
        </p:blipFill>
        <p:spPr>
          <a:xfrm>
            <a:off x="684360" y="3933720"/>
            <a:ext cx="676728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723888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Invalsi 2015    3^ media   d12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6551640" cy="2879640"/>
          </a:xfrm>
          <a:prstGeom prst="rect">
            <a:avLst/>
          </a:prstGeom>
          <a:ln w="0">
            <a:noFill/>
          </a:ln>
        </p:spPr>
      </p:pic>
      <p:sp>
        <p:nvSpPr>
          <p:cNvPr id="280" name="Segnaposto piè di pagina 4"/>
          <p:cNvSpPr/>
          <p:nvPr/>
        </p:nvSpPr>
        <p:spPr>
          <a:xfrm>
            <a:off x="2340000" y="645336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2"/>
          <a:stretch/>
        </p:blipFill>
        <p:spPr>
          <a:xfrm>
            <a:off x="684360" y="4076640"/>
            <a:ext cx="655164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Invalsi  PN 2011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6193080" cy="2663640"/>
          </a:xfrm>
          <a:prstGeom prst="rect">
            <a:avLst/>
          </a:prstGeom>
          <a:ln w="0">
            <a:noFill/>
          </a:ln>
        </p:spPr>
      </p:pic>
      <p:sp>
        <p:nvSpPr>
          <p:cNvPr id="284" name="Segnaposto piè di pagina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onstantia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2"/>
          <a:stretch/>
        </p:blipFill>
        <p:spPr>
          <a:xfrm>
            <a:off x="1042920" y="3716280"/>
            <a:ext cx="6191280" cy="275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2^elementare 2013: unico esempi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6336000" cy="2460600"/>
          </a:xfrm>
          <a:prstGeom prst="rect">
            <a:avLst/>
          </a:prstGeom>
          <a:ln w="0">
            <a:noFill/>
          </a:ln>
        </p:spPr>
      </p:pic>
      <p:sp>
        <p:nvSpPr>
          <p:cNvPr id="288" name="Segnaposto piè di pagina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onstantia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CasellaDiTesto 5"/>
          <p:cNvSpPr/>
          <p:nvPr/>
        </p:nvSpPr>
        <p:spPr>
          <a:xfrm>
            <a:off x="1042920" y="4221000"/>
            <a:ext cx="6265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: Mario dice che è più facile prendere una pallina bianc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B: Giorgia dice che è più facile prendere una pallina ner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: Luca dice che è facile allo stesso mod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sposta corretta:B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educare al pensiero probabilistico, leggere “facile” come “più probabile</a:t>
            </a:r>
            <a:r>
              <a:rPr b="0" lang="it-IT" sz="1800" spc="-1" strike="noStrike">
                <a:solidFill>
                  <a:srgbClr val="000000"/>
                </a:solidFill>
                <a:latin typeface="Constantia"/>
              </a:rPr>
              <a:t>”    discussione in merito al termine “facile”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8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Cosa dice la ricerca didattica…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95280" y="1557000"/>
            <a:ext cx="66628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nstantia"/>
              </a:rPr>
              <a:t>Nel lancio di due dadi, se si tiene conto della somma dei punti scommetteresti sul 7 o sul 10? Perché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Segnaposto piè di pagina 3"/>
          <p:cNvSpPr/>
          <p:nvPr/>
        </p:nvSpPr>
        <p:spPr>
          <a:xfrm>
            <a:off x="2484360" y="645336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763640" y="2492280"/>
          <a:ext cx="4367160" cy="3470400"/>
        </p:xfrm>
        <a:graphic>
          <a:graphicData uri="http://schemas.openxmlformats.org/drawingml/2006/table">
            <a:tbl>
              <a:tblPr/>
              <a:tblGrid>
                <a:gridCol w="1395360"/>
                <a:gridCol w="981360"/>
                <a:gridCol w="1000080"/>
                <a:gridCol w="9903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element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media (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76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essuna rispos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,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,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,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isposta corret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,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4,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6,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isposta err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8,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6,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1,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8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(10)=p(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2,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,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(10)&gt;p(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6,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7,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3,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Passi progressiv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11280" y="1609560"/>
            <a:ext cx="70848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Occorre arrivare alla definizione di probabilità classica, partendo da attività che sviluppino la probabilità in senso frequentis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La definizione non deve essere un punto di partenz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Attività mirate a cogliere il concetto di evento, evento certo e impossibile, per arrivare allo spazio degli event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La storia della nascita del calcolo è affascinante…perché non farla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Segnaposto piè di pagina 3"/>
          <p:cNvSpPr/>
          <p:nvPr/>
        </p:nvSpPr>
        <p:spPr>
          <a:xfrm>
            <a:off x="2627280" y="63817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Attività per inizia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Estrazione palline numerate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Estrazione palline colorate 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Pennarelli colorat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Lancio del dado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Lancio del dado 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La passeggiata dell’ubriaco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La passeggiato dell’ubriaco 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Segnaposto piè di pagina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onstantia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Modalità operativ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E’ necessario che la classe venga suddivisa in piccoli gruppi. Max 3 persone per gruppo. Sarebbe opportuno che, per meglio sfruttare le potenzialità del cooperative learning, ogni elemento del gruppo abbia un compito precis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Utilizzare il linguaggio specifico del calcolo probabilistico, per esempio parlando da subito di “evento”, di “più probabile” anziché “più facile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Segnaposto piè di pagina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onstantia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E in più, il valore aggiunto  dell’attività con schede Merl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In più possiamo allegare due schede Merl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Per possedere un concetto occorre saper passare da una rappresentazione epistemologica ad un’altr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Inoltre, si centra l’obiettivo dell’inclusione e si toccano tutte le Competenze Chiave di Cittadinanz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Segnaposto piè di pagina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onstantia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Lancio della Monet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1966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Constantia"/>
              </a:rPr>
              <a:t>Lanciando 10 volte una moneta non truccata, quale sequenza è più probabile tra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it-IT" sz="2300" spc="-1" strike="noStrike">
                <a:solidFill>
                  <a:srgbClr val="000000"/>
                </a:solidFill>
                <a:latin typeface="Constantia"/>
              </a:rPr>
              <a:t>T C T T C T C C C T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it-IT" sz="2300" spc="-1" strike="noStrike">
                <a:solidFill>
                  <a:srgbClr val="000000"/>
                </a:solidFill>
                <a:latin typeface="Constantia"/>
              </a:rPr>
              <a:t>T T T T T T T T T T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it-IT" sz="2300" spc="-1" strike="noStrike">
                <a:solidFill>
                  <a:srgbClr val="000000"/>
                </a:solidFill>
                <a:latin typeface="Constantia"/>
              </a:rPr>
              <a:t>T C T C T C T C T C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Constantia"/>
              </a:rPr>
              <a:t>La sequenza T T T T T T T T T T è l’esito di 10 lanci 10 di una moneta non truccata. Per l’undicesimo lancio conviene puntare su Testa o Croce?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Segnaposto piè di pagina 3"/>
          <p:cNvSpPr/>
          <p:nvPr/>
        </p:nvSpPr>
        <p:spPr>
          <a:xfrm>
            <a:off x="2484360" y="63817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Immagine 4" descr=""/>
          <p:cNvPicPr/>
          <p:nvPr/>
        </p:nvPicPr>
        <p:blipFill>
          <a:blip r:embed="rId1"/>
          <a:stretch/>
        </p:blipFill>
        <p:spPr>
          <a:xfrm>
            <a:off x="4700520" y="1755720"/>
            <a:ext cx="2870280" cy="31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sp>
        <p:nvSpPr>
          <p:cNvPr id="308" name="Segnaposto piè di pagina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onstantia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egnaposto piè di pagina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onstantia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egnaposto piè di pagina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onstantia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Arial"/>
                <a:ea typeface="Arial"/>
              </a:rPr>
              <a:t>Perché fare probabilità?</a:t>
            </a:r>
            <a:br>
              <a:rPr sz="4500"/>
            </a:br>
            <a:r>
              <a:rPr b="0" lang="it-IT" sz="4500" spc="-1" strike="noStrike">
                <a:solidFill>
                  <a:srgbClr val="04617b"/>
                </a:solidFill>
                <a:latin typeface="Arial"/>
                <a:ea typeface="Arial"/>
              </a:rPr>
              <a:t>Dal congresso I.C.M.E.11, 2008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gente comune usa la propria esperienza per valutare la probabilità in modo molto casua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gente comune tratta l’informazione in modo parecchio incomplet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gente comune tratta l’informazione lasciandosi influenzare dagli eventi salient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gente comune incontra grosse difficoltà nel valutare probabilità molto piccole o molto grand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Segnaposto piè di pagina 3"/>
          <p:cNvSpPr/>
          <p:nvPr/>
        </p:nvSpPr>
        <p:spPr>
          <a:xfrm>
            <a:off x="2411280" y="63817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Intermezzo: Scommettiamo che…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26680" y="1096920"/>
            <a:ext cx="70693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Conviene scommettere che almeno due di noi festeggiano il compleanno lo stesso giorno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Segnaposto piè di pagina 3"/>
          <p:cNvSpPr/>
          <p:nvPr/>
        </p:nvSpPr>
        <p:spPr>
          <a:xfrm>
            <a:off x="2556000" y="63817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6" descr="http://gruppo.canovasport.it/piscinemonselice/wp-content/uploads/sites/3/2014/11/compleanno.png"/>
          <p:cNvPicPr/>
          <p:nvPr/>
        </p:nvPicPr>
        <p:blipFill>
          <a:blip r:embed="rId1"/>
          <a:stretch/>
        </p:blipFill>
        <p:spPr>
          <a:xfrm>
            <a:off x="2940120" y="2708280"/>
            <a:ext cx="2173320" cy="33274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https://upload.wikimedia.org/wikipedia/commons/thumb/6/67/Birthday_Paradox_IT.svg/350px-Birthday_Paradox_IT.svg.png"/>
          <p:cNvPicPr/>
          <p:nvPr/>
        </p:nvPicPr>
        <p:blipFill>
          <a:blip r:embed="rId2"/>
          <a:stretch/>
        </p:blipFill>
        <p:spPr>
          <a:xfrm>
            <a:off x="527040" y="2579760"/>
            <a:ext cx="3333600" cy="2143080"/>
          </a:xfrm>
          <a:prstGeom prst="rect">
            <a:avLst/>
          </a:prstGeom>
          <a:ln w="0">
            <a:noFill/>
          </a:ln>
        </p:spPr>
      </p:pic>
      <p:pic>
        <p:nvPicPr>
          <p:cNvPr id="221" name="CasellaDiTesto 5" descr=""/>
          <p:cNvPicPr/>
          <p:nvPr/>
        </p:nvPicPr>
        <p:blipFill>
          <a:blip r:embed="rId3"/>
          <a:stretch/>
        </p:blipFill>
        <p:spPr>
          <a:xfrm>
            <a:off x="4108320" y="2968560"/>
            <a:ext cx="3889440" cy="822240"/>
          </a:xfrm>
          <a:prstGeom prst="rect">
            <a:avLst/>
          </a:prstGeom>
          <a:ln w="0">
            <a:noFill/>
          </a:ln>
        </p:spPr>
      </p:pic>
      <p:sp>
        <p:nvSpPr>
          <p:cNvPr id="222" name="CasellaDiTesto 6"/>
          <p:cNvSpPr/>
          <p:nvPr/>
        </p:nvSpPr>
        <p:spPr>
          <a:xfrm>
            <a:off x="131040" y="5684760"/>
            <a:ext cx="66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Constantia"/>
              </a:rPr>
              <a:t>In particolare, in un gruppo formato da più di 365 persone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Constantia"/>
              </a:rPr>
              <a:t>l’evento è </a:t>
            </a:r>
            <a:r>
              <a:rPr b="1" lang="it-IT" sz="1800" spc="-1" strike="noStrike">
                <a:solidFill>
                  <a:srgbClr val="ff0000"/>
                </a:solidFill>
                <a:latin typeface="Constantia"/>
              </a:rPr>
              <a:t>certo</a:t>
            </a:r>
            <a:r>
              <a:rPr b="0" lang="it-IT" sz="1800" spc="-1" strike="noStrike">
                <a:solidFill>
                  <a:srgbClr val="ff0000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CasellaDiTesto 12" descr=""/>
          <p:cNvPicPr/>
          <p:nvPr/>
        </p:nvPicPr>
        <p:blipFill>
          <a:blip r:embed="rId4"/>
          <a:stretch/>
        </p:blipFill>
        <p:spPr>
          <a:xfrm>
            <a:off x="493560" y="4834080"/>
            <a:ext cx="7242480" cy="65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80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Arial"/>
                <a:ea typeface="Arial"/>
              </a:rPr>
              <a:t>E ancora…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196640"/>
            <a:ext cx="72388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gente comune non assegna probabilità 0 all’evento impossibile né la probabilità 1 a quello cert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gente comune associa certezza e impossibilità a eventi fisici piuttosto che a quelli logic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gente comune assegna le probabilità 50% e 50% ai due eventi legati al lancio di una qualsiasi mone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gente comune assegna equiprobabilità a situazioni sconosciu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gente comune si dimostra incoerente quando assegna e valuta probabilit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gente comune si comporta in modo sovraddi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Segnaposto piè di pagina 3"/>
          <p:cNvSpPr/>
          <p:nvPr/>
        </p:nvSpPr>
        <p:spPr>
          <a:xfrm>
            <a:off x="2627280" y="645336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Sfida: Noi non vogliamo essere la “gente comune”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Per questo è richiesto un  anticipo alla primaria del calcolo probabilist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Educare al pensiero probabilist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Come possiamo far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Partiamo dai </a:t>
            </a:r>
            <a:r>
              <a:rPr b="0" i="1" lang="it-IT" sz="2600" spc="-1" strike="noStrike">
                <a:solidFill>
                  <a:srgbClr val="ff0000"/>
                </a:solidFill>
                <a:latin typeface="Constantia"/>
              </a:rPr>
              <a:t>probabili </a:t>
            </a: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misconcetti e sulla possibilità di correggerli con opportune azioni didattich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Segnaposto piè di pagina 3"/>
          <p:cNvSpPr/>
          <p:nvPr/>
        </p:nvSpPr>
        <p:spPr>
          <a:xfrm>
            <a:off x="2340000" y="63817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1595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Dalle indicazioni nazionali</a:t>
            </a:r>
            <a:br>
              <a:rPr sz="4500"/>
            </a:b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per un percorso dall’infanzia in vertical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Segnaposto piè di pagina 8"/>
          <p:cNvSpPr/>
          <p:nvPr/>
        </p:nvSpPr>
        <p:spPr>
          <a:xfrm>
            <a:off x="2124000" y="623736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Immagine 3" descr=""/>
          <p:cNvPicPr/>
          <p:nvPr/>
        </p:nvPicPr>
        <p:blipFill>
          <a:blip r:embed="rId1"/>
          <a:stretch/>
        </p:blipFill>
        <p:spPr>
          <a:xfrm>
            <a:off x="592200" y="2133720"/>
            <a:ext cx="6969240" cy="42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Traguardi per lo sviluppo delle competenz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24000" y="2420640"/>
            <a:ext cx="723888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“…</a:t>
            </a: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il bambino sa collocare le azioni quotidiane nel tempo della giornata e della settiman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Riferisce correttamente eventi del passato recente e sa dire cosa potrà succedere in futu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Segnaposto piè di pagina 4"/>
          <p:cNvSpPr/>
          <p:nvPr/>
        </p:nvSpPr>
        <p:spPr>
          <a:xfrm>
            <a:off x="2411280" y="63817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7T08:59:12Z</dcterms:created>
  <dc:creator>Matteo Para</dc:creator>
  <dc:description/>
  <dc:language>en-US</dc:language>
  <cp:lastModifiedBy>Matteo Para</cp:lastModifiedBy>
  <dcterms:modified xsi:type="dcterms:W3CDTF">2016-05-05T14:52:58Z</dcterms:modified>
  <cp:revision>116</cp:revision>
  <dc:subject/>
  <dc:title>Preparare all’Invalsi attraverso Merlo</dc:title>
</cp:coreProperties>
</file>